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1C17-D8FC-41EE-87A6-AAFB18F58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29CB-79C8-44BB-9F68-667AC9969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083F-FC62-4F20-ADFB-6E5079A54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1D64-D269-474E-8C55-FD43EABE5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3D74-DEF1-46B2-983D-D2E7C634F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273F-2345-4679-8AD7-3F26622E9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B20A-E14C-4B56-9DE8-0055409BA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00E3-F77C-4333-BC43-06D758739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EC0E-5B85-4444-99BD-C0D939E72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A014-DABA-4458-846F-2C700DBE9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E03A-00D2-4448-9046-28A58DF8F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7A45-A54C-4E6D-B46D-1E954C1AB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F07B5-5824-478E-8677-1C3AA6F509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850248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OCED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502480" y="0"/>
            <a:ext cx="140364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P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384720" y="838080"/>
            <a:ext cx="1238040" cy="6019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861160" y="838080"/>
            <a:ext cx="1320840" cy="6019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622760" y="838080"/>
            <a:ext cx="1238400" cy="6019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182000" y="838080"/>
            <a:ext cx="1320480" cy="6019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502480" y="838080"/>
            <a:ext cx="1403640" cy="6019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838080"/>
            <a:ext cx="1403640" cy="6019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838080"/>
            <a:ext cx="1981080" cy="6019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182000" y="380880"/>
            <a:ext cx="13204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502480" y="380880"/>
            <a:ext cx="14036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861160" y="380880"/>
            <a:ext cx="13208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622760" y="380880"/>
            <a:ext cx="12384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384720" y="380880"/>
            <a:ext cx="12380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380880"/>
            <a:ext cx="14036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80880"/>
            <a:ext cx="1981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3000" y="457200"/>
            <a:ext cx="102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Observ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enri-Pierre Maders, Jean-Luc Masselin</dc:creator>
  <dc:description/>
  <dc:language>en-US</dc:language>
  <cp:lastModifiedBy>rochas</cp:lastModifiedBy>
  <cp:lastPrinted>2000-05-11T10:17:14Z</cp:lastPrinted>
  <dcterms:modified xsi:type="dcterms:W3CDTF">2004-04-01T13:43:55Z</dcterms:modified>
  <cp:revision>71</cp:revision>
  <dc:subject/>
  <dc:title>Contrôle interne des risques</dc:title>
</cp:coreProperties>
</file>